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D69B-E376-4D1B-8C64-399B701D1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64DF-3841-4BA5-B1EA-A66B2224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1475-AFDE-4787-934C-FC33C56BD0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F0B75-D9B6-4CD9-8095-C01A2179C0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BE50-E25C-43E8-A105-75F2C313B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E563-0EE9-42C2-9289-C432BCC84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B2F0-C4F0-4E5F-9830-3C1CDBE26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882A-C870-46D9-9EF9-97C5BCD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8FF91-DA49-4F42-896F-66E42997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858B-85FA-4CEF-AB28-3074D5CFE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4DDF-6BF9-43AF-A7B2-CB39D39A0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C98FF-B79D-4629-9FD5-40CFE473A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96735-D1EC-44CF-A76E-55672FEC27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228600" y="380520"/>
            <a:ext cx="861048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et Notes 11/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de of ice, dust, and small rocky partic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bits: long, narrow elliptical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only visible when near the sun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brightest part of comet: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comet head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ets close to sun &amp; heats u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ail of gas and du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 described as "dirty snowballs" or "icy mudballs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5467320" y="1600200"/>
            <a:ext cx="32385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4T15:16:38Z</dcterms:created>
  <dc:creator>skrial</dc:creator>
  <dc:description/>
  <dc:language>en-US</dc:language>
  <cp:lastModifiedBy>skrial</cp:lastModifiedBy>
  <dcterms:modified xsi:type="dcterms:W3CDTF">2009-11-14T15:17:02Z</dcterms:modified>
  <cp:revision>1</cp:revision>
  <dc:subject/>
  <dc:title>Slide 1</dc:title>
</cp:coreProperties>
</file>